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6DCB-5ED4-4595-9411-94A7C8C4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420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1420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2CE-0BDE-47F6-8ABF-E28CE069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1420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43124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1420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43124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3A3D-5821-4F8E-9E34-48C86D90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42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99664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77908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142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99664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77908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B0A5-0778-43E5-8F00-EAC7F57A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1420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EEC4-D129-40BD-BEB0-50196069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420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8025-B709-49DA-B858-A2839BD9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420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124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0F92-B71F-468F-AD2E-27CBD9B8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214-40FC-49FD-9C5B-2FF72220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EBDB-7AB3-4C42-AD1C-184623B2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420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3124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420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CB84-E787-4F96-9959-6A9057F4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420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124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3124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780-EB20-443B-A871-4D95F4CA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420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124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420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6614-3C1A-45E2-9B44-90D9B95F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Капля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3429000"/>
                </a:moveTo>
                <a:cubicBezTo>
                  <a:pt x="0" y="1535216"/>
                  <a:pt x="2046954" y="0"/>
                  <a:pt x="4572000" y="0"/>
                </a:cubicBezTo>
                <a:lnTo>
                  <a:pt x="9144000" y="0"/>
                </a:lnTo>
                <a:lnTo>
                  <a:pt x="9144000" y="3429000"/>
                </a:lnTo>
                <a:cubicBezTo>
                  <a:pt x="9144000" y="5322784"/>
                  <a:pt x="7097046" y="6858000"/>
                  <a:pt x="4572000" y="6858000"/>
                </a:cubicBezTo>
                <a:cubicBezTo>
                  <a:pt x="2046954" y="6858000"/>
                  <a:pt x="0" y="5322784"/>
                  <a:pt x="0" y="3429000"/>
                </a:cubicBezTo>
                <a:close/>
              </a:path>
            </a:pathLst>
          </a:custGeom>
          <a:solidFill>
            <a:srgbClr val="e46c0a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Капля 7"/>
          <p:cNvSpPr/>
          <p:nvPr/>
        </p:nvSpPr>
        <p:spPr>
          <a:xfrm>
            <a:off x="285840" y="0"/>
            <a:ext cx="8858160" cy="6643800"/>
          </a:xfrm>
          <a:custGeom>
            <a:avLst/>
            <a:gdLst/>
            <a:ahLst/>
            <a:rect l="l" t="t" r="r" b="b"/>
            <a:pathLst>
              <a:path w="8858250" h="6643688">
                <a:moveTo>
                  <a:pt x="0" y="3321844"/>
                </a:moveTo>
                <a:cubicBezTo>
                  <a:pt x="0" y="1487240"/>
                  <a:pt x="1982987" y="0"/>
                  <a:pt x="4429125" y="0"/>
                </a:cubicBezTo>
                <a:lnTo>
                  <a:pt x="8858250" y="0"/>
                </a:lnTo>
                <a:lnTo>
                  <a:pt x="8858250" y="3321844"/>
                </a:lnTo>
                <a:cubicBezTo>
                  <a:pt x="8858250" y="5156448"/>
                  <a:pt x="6875263" y="6643688"/>
                  <a:pt x="4429125" y="6643688"/>
                </a:cubicBezTo>
                <a:cubicBezTo>
                  <a:pt x="1982987" y="6643688"/>
                  <a:pt x="0" y="5156448"/>
                  <a:pt x="0" y="3321844"/>
                </a:cubicBezTo>
                <a:close/>
              </a:path>
            </a:pathLst>
          </a:custGeom>
          <a:solidFill>
            <a:srgbClr val="fac09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Группа 18"/>
          <p:cNvGrpSpPr/>
          <p:nvPr/>
        </p:nvGrpSpPr>
        <p:grpSpPr>
          <a:xfrm>
            <a:off x="-266760" y="-12600"/>
            <a:ext cx="2122560" cy="2746440"/>
            <a:chOff x="-266760" y="-12600"/>
            <a:chExt cx="2122560" cy="2746440"/>
          </a:xfrm>
        </p:grpSpPr>
        <p:pic>
          <p:nvPicPr>
            <p:cNvPr id="3" name="Рисунок 9" descr="0_8f424_cc15125_XL.png"/>
            <p:cNvPicPr/>
            <p:nvPr/>
          </p:nvPicPr>
          <p:blipFill>
            <a:blip r:embed="rId2"/>
            <a:stretch/>
          </p:blipFill>
          <p:spPr>
            <a:xfrm>
              <a:off x="-266760" y="499320"/>
              <a:ext cx="1433880" cy="20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Рисунок 10" descr="0_8f424_cc15125_XL.png"/>
            <p:cNvPicPr/>
            <p:nvPr/>
          </p:nvPicPr>
          <p:blipFill>
            <a:blip r:embed="rId3"/>
            <a:stretch/>
          </p:blipFill>
          <p:spPr>
            <a:xfrm>
              <a:off x="20880" y="-12600"/>
              <a:ext cx="1834920" cy="220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Рисунок 11" descr="0_8f424_cc15125_XL.png"/>
            <p:cNvPicPr/>
            <p:nvPr/>
          </p:nvPicPr>
          <p:blipFill>
            <a:blip r:embed="rId4"/>
            <a:stretch/>
          </p:blipFill>
          <p:spPr>
            <a:xfrm>
              <a:off x="153000" y="888480"/>
              <a:ext cx="1377360" cy="184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" name="Рисунок 25" descr="0_8f424_cc15125_XL.png"/>
          <p:cNvPicPr/>
          <p:nvPr/>
        </p:nvPicPr>
        <p:blipFill>
          <a:blip r:embed="rId5"/>
          <a:stretch/>
        </p:blipFill>
        <p:spPr>
          <a:xfrm rot="1707600">
            <a:off x="7033680" y="457200"/>
            <a:ext cx="2264040" cy="194328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9" descr="0_8f424_cc15125_XL.png"/>
          <p:cNvPicPr/>
          <p:nvPr/>
        </p:nvPicPr>
        <p:blipFill>
          <a:blip r:embed="rId6"/>
          <a:stretch/>
        </p:blipFill>
        <p:spPr>
          <a:xfrm rot="4988400">
            <a:off x="262440" y="4858200"/>
            <a:ext cx="2938680" cy="284832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11" descr="0_8f424_cc15125_XL.png"/>
          <p:cNvPicPr/>
          <p:nvPr/>
        </p:nvPicPr>
        <p:blipFill>
          <a:blip r:embed="rId7"/>
          <a:stretch/>
        </p:blipFill>
        <p:spPr>
          <a:xfrm rot="3600600">
            <a:off x="908280" y="3890160"/>
            <a:ext cx="2414880" cy="234000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10" descr="0_8f424_cc15125_XL.png"/>
          <p:cNvPicPr/>
          <p:nvPr/>
        </p:nvPicPr>
        <p:blipFill>
          <a:blip r:embed="rId8"/>
          <a:stretch/>
        </p:blipFill>
        <p:spPr>
          <a:xfrm rot="1339200">
            <a:off x="-150840" y="4295880"/>
            <a:ext cx="2386080" cy="23112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420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A634-3577-4A96-8940-06E2BA7C7B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7643880" y="635868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6c0a"/>
                </a:solidFill>
                <a:latin typeface="Monotype Corsiva"/>
                <a:ea typeface="Times New Roman"/>
              </a:rPr>
              <a:t>Olga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ЕННИЕ ПЕСНИ ДЛЯ </a:t>
            </a:r>
            <a:br>
              <a:rPr sz="3600"/>
            </a:b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ТЕЙ МЛАДШЕЙ ГРУПП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42920" y="2214720"/>
            <a:ext cx="734544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ая красивая Осень,                                                                                                               Какой золотистый ковёр,                                                                                        И в гости сегодня к ребятам                                                                                                       Наш праздник осенний пришёл!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источки все осенним днём                                                       Красивые, цветные!                                                                                     Давайте песенку споём                                                                                      Про осень золотую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124000" y="1166760"/>
            <a:ext cx="5327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ИСТИК ЖЁЛТЫЙ»                                            музыка и слова Е. Гомон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истик желтый, листик жел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жку упа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значит, это значит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ь в гости к нам ид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и, красавица, Осень золо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кам очень нравится Осень золота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от из тучки дождик, дожд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адошку упа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значит, это значит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ь в гости к нам идет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и, красавица, Осень золо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кам очень нравится Осень золота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ЖДИК»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 В. Костенко слова Е. Макшанцевой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опровождении игры на колокольчиках и бубенца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71680" y="2143080"/>
            <a:ext cx="822960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ождик, дождик, не шуми, кап-кап-кап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ят, просят малыши, кап-кап-ка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когда пойдём мы спать, кап-кап-кап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чишь тогда опять, кап-кап-ка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м дождя не переждать, кап-кап-кап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равно пойдём гулять, кап-кап-ка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по зонтику я дам, кап-кап-кап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страшен дождик нам, кап-кап-ка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403280" y="170028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СКОРЫХ ВСТРЕ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ЗИМНИХ ПРАЗДНИКАХ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0T17:58:16Z</dcterms:created>
  <dc:creator>Пользователь</dc:creator>
  <dc:description/>
  <dc:language>en-US</dc:language>
  <cp:lastModifiedBy>Марина</cp:lastModifiedBy>
  <dcterms:modified xsi:type="dcterms:W3CDTF">2020-09-09T15:47:55Z</dcterms:modified>
  <cp:revision>17</cp:revision>
  <dc:subject/>
  <dc:title>Слайд 1</dc:title>
</cp:coreProperties>
</file>